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21A-99E3-4BB8-BE24-F66BE52E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46E-7E75-4BD6-A6CF-A6770F15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2AB-FCFD-44A9-9F36-B566CBCA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649-6417-4F5A-A9E4-06425F40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AE7-C100-4015-ADA5-1D7E32F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4EE-D7BA-45F4-89AF-A2E32369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2B2-1C88-4437-9C41-D7E565F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DF1-518D-4B57-91D3-F4A4360F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3E1-4E93-4F10-B52E-1E91B38F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FE7-4622-4C1D-BE3B-9059F0DA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18D-CD19-4F09-BCD3-46AE5D7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CA5-030C-4B2A-B36E-DF3B561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021-BEFF-48E4-B2C1-73EEE99909B5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24360" y="126828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3573360"/>
            <a:ext cx="104148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00000" y="1268280"/>
            <a:ext cx="103824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>
            <a:grayscl/>
            <a:lum contrast="72000"/>
          </a:blip>
          <a:stretch/>
        </p:blipFill>
        <p:spPr>
          <a:xfrm>
            <a:off x="4716360" y="270828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>
            <a:grayscl/>
            <a:lum contrast="72000"/>
          </a:blip>
          <a:stretch/>
        </p:blipFill>
        <p:spPr>
          <a:xfrm>
            <a:off x="0" y="501336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>
            <a:grayscl/>
            <a:lum contrast="72000"/>
          </a:blip>
          <a:stretch/>
        </p:blipFill>
        <p:spPr>
          <a:xfrm>
            <a:off x="4716360" y="5013360"/>
            <a:ext cx="1181160" cy="115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65300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234936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34936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465300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62064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278136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515772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2920" y="515772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2997360"/>
            <a:ext cx="252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2920" y="54936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0">
            <a:grayscl/>
            <a:lum contrast="72000"/>
          </a:blip>
          <a:stretch/>
        </p:blipFill>
        <p:spPr>
          <a:xfrm>
            <a:off x="4716360" y="333360"/>
            <a:ext cx="1181160" cy="11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>
            <a:grayscl/>
            <a:lum contrast="72000"/>
          </a:blip>
          <a:stretch/>
        </p:blipFill>
        <p:spPr>
          <a:xfrm>
            <a:off x="0" y="2637000"/>
            <a:ext cx="1181160" cy="115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>
            <a:grayscl/>
            <a:lum contrast="72000"/>
          </a:blip>
          <a:stretch/>
        </p:blipFill>
        <p:spPr>
          <a:xfrm>
            <a:off x="0" y="333360"/>
            <a:ext cx="1181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08:18Z</dcterms:created>
  <dc:creator> pc</dc:creator>
  <dc:description/>
  <dc:language>en-US</dc:language>
  <cp:lastModifiedBy> pc</cp:lastModifiedBy>
  <dcterms:modified xsi:type="dcterms:W3CDTF">2004-09-29T18:10:21Z</dcterms:modified>
  <cp:revision>11</cp:revision>
  <dc:subject/>
  <dc:title>Slide 1</dc:title>
</cp:coreProperties>
</file>