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F166B-041C-4C03-BE73-519B334E1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951C-1F9F-4293-8F5F-37C017B2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114E6-1D93-4956-80DD-7DDC7C838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3BCAB-5024-44C7-907B-4E005D1A0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64D3-ECC6-4214-8B2E-CD582F52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AD5F4-B438-437E-8070-2924EE7E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8F3E-5D7C-448F-8452-66ABDCED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A0E7-6C50-4520-A70F-DB3084F3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10DF2-E1CF-4F05-AECB-3C8604C0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6D95-DBC5-4AB1-9F86-10D0755F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A189-E321-4AF4-A8C3-C32E7B5A5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EC82-D760-4D36-A049-7DF197B1B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05E3-06CC-4CAE-9BA7-7C75D7617D8A}"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360"/>
            <a:ext cx="4500720" cy="224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48" name=""/>
          <p:cNvSpPr/>
          <p:nvPr/>
        </p:nvSpPr>
        <p:spPr>
          <a:xfrm>
            <a:off x="0" y="234936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49" name=""/>
          <p:cNvSpPr/>
          <p:nvPr/>
        </p:nvSpPr>
        <p:spPr>
          <a:xfrm>
            <a:off x="0" y="461628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0" name=""/>
          <p:cNvSpPr/>
          <p:nvPr/>
        </p:nvSpPr>
        <p:spPr>
          <a:xfrm>
            <a:off x="4572000" y="461628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1" name=""/>
          <p:cNvSpPr/>
          <p:nvPr/>
        </p:nvSpPr>
        <p:spPr>
          <a:xfrm>
            <a:off x="4572000" y="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2" name=""/>
          <p:cNvSpPr/>
          <p:nvPr/>
        </p:nvSpPr>
        <p:spPr>
          <a:xfrm>
            <a:off x="4572000" y="234936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46:20Z</dcterms:modified>
  <cp:revision>7</cp:revision>
  <dc:subject/>
  <dc:title>Slide 1</dc:title>
</cp:coreProperties>
</file>