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8F4-02A8-4E6C-9D06-185EB5B3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297-32FB-4F06-B854-2BFE4F1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3A2-A1CA-49D7-8BFA-13EC41E5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D01-9051-4051-9370-070D8B70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040-03A0-41F4-A748-A24AE056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F52-217C-4F5D-980A-7BAB5F88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E39-2D2E-4B2B-A430-A0E44704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6F3-DE45-4030-82CD-EE8F325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B2C-BFE6-4053-ACC3-59699469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9B5-53CE-4CC8-853D-FACA577A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77D-E494-4703-8796-0A7CCB8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C18-4849-412A-BF4D-8B135B0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FDFC-6DAE-4BFB-8DFF-AA13F6693128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54936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2920" y="5084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70828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04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5084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852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6530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6530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2349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9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29T20:03:38Z</dcterms:modified>
  <cp:revision>15</cp:revision>
  <dc:subject/>
  <dc:title>Slide 1</dc:title>
</cp:coreProperties>
</file>