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DAAC-9780-480F-9821-B04E4CEAC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5B17-8729-48F2-B17F-8F67B984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1037-7F50-44F1-91CB-47A57E8EE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6E03-5A1F-4A45-A4F6-64A71E041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35B7-68D5-4795-8FE7-18B9DCEB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02E8-28F3-4C2F-A06F-1999F02D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6BA7-653E-4924-823E-43B8A0DA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1E9A-9F9D-487B-A808-8131609B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5262-46F7-4A2E-86D4-5A49D610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8817-0009-455C-821C-E96DD3C0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E980-D867-4D93-8F4C-1E214FF2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7CBA-E631-4C91-BE3C-17BF34D5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E849-B419-4A1A-9EB9-FCD163235B02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5943600"/>
            <a:ext cx="1038240" cy="914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724360" y="5943600"/>
            <a:ext cx="1038240" cy="914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724360" y="3573360"/>
            <a:ext cx="1038240" cy="91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724360" y="1268280"/>
            <a:ext cx="103824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900000" y="3573360"/>
            <a:ext cx="1041480" cy="914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900000" y="1268280"/>
            <a:ext cx="1038240" cy="914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4653000"/>
            <a:ext cx="4500720" cy="2205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3280" y="4653000"/>
            <a:ext cx="4500720" cy="2205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3280" y="2349360"/>
            <a:ext cx="4500720" cy="2205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3280" y="0"/>
            <a:ext cx="4500720" cy="2205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349360"/>
            <a:ext cx="4500720" cy="2205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4500720" cy="2205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7">
            <a:grayscl/>
            <a:lum contrast="72000"/>
          </a:blip>
          <a:stretch/>
        </p:blipFill>
        <p:spPr>
          <a:xfrm>
            <a:off x="4716360" y="2708280"/>
            <a:ext cx="1181160" cy="1155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>
            <a:grayscl/>
            <a:lum contrast="72000"/>
          </a:blip>
          <a:stretch/>
        </p:blipFill>
        <p:spPr>
          <a:xfrm>
            <a:off x="0" y="5013360"/>
            <a:ext cx="1181160" cy="1155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>
            <a:grayscl/>
            <a:lum contrast="72000"/>
          </a:blip>
          <a:stretch/>
        </p:blipFill>
        <p:spPr>
          <a:xfrm>
            <a:off x="4716360" y="5013360"/>
            <a:ext cx="1181160" cy="1155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421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500" spc="-1" strike="noStrike">
                <a:solidFill>
                  <a:srgbClr val="000000"/>
                </a:solidFill>
                <a:latin typeface="Arial Black"/>
              </a:rPr>
              <a:t>Plus de portable pour les réfugié(e)s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3280" y="0"/>
            <a:ext cx="421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500" spc="-1" strike="noStrike">
                <a:solidFill>
                  <a:srgbClr val="000000"/>
                </a:solidFill>
                <a:latin typeface="Arial Black"/>
              </a:rPr>
              <a:t>Plus de portable pour les réfugié(e)s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8000" y="404640"/>
            <a:ext cx="2521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 Black"/>
              </a:rPr>
              <a:t>Le groupe de défense des droits de l‘homme augenauf dénonce cette exclusion de plus de 60‘000 personnes et organise après le succès de la première action d‘enregistrement une deuxième action 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0">
            <a:grayscl/>
            <a:lum contrast="72000"/>
          </a:blip>
          <a:stretch/>
        </p:blipFill>
        <p:spPr>
          <a:xfrm>
            <a:off x="4716360" y="333360"/>
            <a:ext cx="1181160" cy="1152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1">
            <a:grayscl/>
            <a:lum contrast="72000"/>
          </a:blip>
          <a:stretch/>
        </p:blipFill>
        <p:spPr>
          <a:xfrm>
            <a:off x="0" y="2637000"/>
            <a:ext cx="1181160" cy="1152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2">
            <a:grayscl/>
            <a:lum contrast="72000"/>
          </a:blip>
          <a:stretch/>
        </p:blipFill>
        <p:spPr>
          <a:xfrm>
            <a:off x="0" y="333360"/>
            <a:ext cx="1181160" cy="1152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08000" y="2708280"/>
            <a:ext cx="2521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 Black"/>
              </a:rPr>
              <a:t>Le groupe de défense des droits de l‘homme augenauf dénonce cette exclusion de plus de 60‘000 personnes et organise après le succès de la première action d‘enregistrement une deuxième action 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22920" y="404640"/>
            <a:ext cx="2521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 Black"/>
              </a:rPr>
              <a:t>Le groupe de défense des droits de l‘homme augenauf dénonce cette exclusion de plus de 60‘000 personnes et organise après le succès de la première action d‘enregistrement une deuxième action 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622920" y="2708280"/>
            <a:ext cx="2521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 Black"/>
              </a:rPr>
              <a:t>Le groupe de défense des droits de l‘homme augenauf dénonce cette exclusion de plus de 60‘000 personnes et organise après le succès de la première action d‘enregistrement une deuxième action 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22920" y="5013360"/>
            <a:ext cx="2521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 Black"/>
              </a:rPr>
              <a:t>Le groupe de défense des droits de l‘homme augenauf dénonce cette exclusion de plus de 60‘000 personnes et organise après le succès de la première action d‘enregistrement une deuxième action 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5013360"/>
            <a:ext cx="2520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 Black"/>
              </a:rPr>
              <a:t>Le groupe de défense des droits de l‘homme augenauf dénonce cette exclusion de plus de 60‘000 personnes et organise après le succès de la première action d‘enregistrement une deuxième action 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653000"/>
            <a:ext cx="421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500" spc="-1" strike="noStrike">
                <a:solidFill>
                  <a:srgbClr val="000000"/>
                </a:solidFill>
                <a:latin typeface="Arial Black"/>
              </a:rPr>
              <a:t>Plus de portable pour les réfugié(e)s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49360"/>
            <a:ext cx="421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500" spc="-1" strike="noStrike">
                <a:solidFill>
                  <a:srgbClr val="000000"/>
                </a:solidFill>
                <a:latin typeface="Arial Black"/>
              </a:rPr>
              <a:t>Plus de portable pour les réfugié(e)s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16360" y="2421000"/>
            <a:ext cx="421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500" spc="-1" strike="noStrike">
                <a:solidFill>
                  <a:srgbClr val="000000"/>
                </a:solidFill>
                <a:latin typeface="Arial Black"/>
              </a:rPr>
              <a:t>Plus de portable pour les réfugié(e)s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16360" y="4653000"/>
            <a:ext cx="421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500" spc="-1" strike="noStrike">
                <a:solidFill>
                  <a:srgbClr val="000000"/>
                </a:solidFill>
                <a:latin typeface="Arial Black"/>
              </a:rPr>
              <a:t>Plus de portable pour les réfugié(e)s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12:08:18Z</dcterms:created>
  <dc:creator> pc</dc:creator>
  <dc:description/>
  <dc:language>en-US</dc:language>
  <cp:lastModifiedBy> pc</cp:lastModifiedBy>
  <dcterms:modified xsi:type="dcterms:W3CDTF">2004-09-29T19:28:17Z</dcterms:modified>
  <cp:revision>13</cp:revision>
  <dc:subject/>
  <dc:title>Slide 1</dc:title>
</cp:coreProperties>
</file>