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30D-5F45-4B4D-996E-B8A7DBC3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37D-879A-40F3-B0D7-1E8DB63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1C6-FB50-4609-9188-59D39454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B61-4C18-40F1-8425-1095298A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56E-1FF2-4EAA-BF51-A3A034CD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FCC-CA3C-4BC9-A518-2320BDF8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ABD-F1D9-4F0A-B27E-84B06230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0F9-1AEE-4E2F-A833-B9C9F4DA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8C0-5901-4656-8100-4F21FE1B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2C3-2DD5-4E0B-AC80-A5A2A47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123-C092-43F8-95B9-FD4C29A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B3A-10EC-4236-B70E-42F373C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0E3D-0DF6-46AA-AAC2-802A4DF43F6C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592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Black"/>
              </a:rPr>
              <a:t>No mas telefono movil para los refugiad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54936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l grupo de derechos humanos augenauf protesta contra esta exclusion de mas de 60'000 hombres y organisa después del gran exito de la primera </a:t>
            </a: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accion de registracion otra accion 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72428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Black"/>
              </a:rPr>
              <a:t>No mas telefono movil para los refugiad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472428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Black"/>
              </a:rPr>
              <a:t>No mas telefono movil para los refugiad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2100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Black"/>
              </a:rPr>
              <a:t>No mas telefono movil para los refugiad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1592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Black"/>
              </a:rPr>
              <a:t>No mas telefono movil para los refugiad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242100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Black"/>
              </a:rPr>
              <a:t>No mas telefono movil para los refugiad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2920" y="530532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l grupo de derechos humanos augenauf protesta contra esta exclusion de mas de 60'000 hombres y organisa después del gran exito de la primera </a:t>
            </a: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accion de registracion otra accion 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2920" y="2852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l grupo de derechos humanos augenauf protesta contra esta exclusion de mas de 60'000 hombres y organisa después del gran exito de la primera </a:t>
            </a: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accion de registracion otra accion 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2920" y="620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l grupo de derechos humanos augenauf protesta contra esta exclusion de mas de 60'000 hombres y organisa después del gran exito de la primera </a:t>
            </a: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accion de registracion otra accion 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278136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l grupo de derechos humanos augenauf protesta contra esta exclusion de mas de 60'000 hombres y organisa después del gran exito de la primera </a:t>
            </a: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accion de registracion otra accion 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530532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l grupo de derechos humanos augenauf protesta contra esta exclusion de mas de 60'000 hombres y organisa después del gran exito de la primera </a:t>
            </a: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accion de registracion otra accion 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30T18:22:13Z</dcterms:modified>
  <cp:revision>14</cp:revision>
  <dc:subject/>
  <dc:title>Slide 1</dc:title>
</cp:coreProperties>
</file>