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E1E9-969B-4A23-9855-E2F9FAE3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E30C-1365-4835-89CF-0A83D875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D4F6-6B09-4335-9EB8-4243C6EC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F516-9BA2-4D9D-AB58-08B3175D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337F-3E58-471A-87CA-9DFD45B2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3133-508B-449E-B4E8-351A3CD3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7B4F-93C3-48B1-9C88-AA4A4464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1740-5531-4A4E-9740-12460E2E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2B93-DA45-4667-B0EA-FE48A7F3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DAE3-3D22-4452-BC2D-49E224ED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44F4-B3C1-4006-A891-BAF8B9DF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E85-5DD0-45DC-A3E6-565E3753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08A8-BBB2-402A-92D5-4EDA08E43249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43280" y="4653000"/>
            <a:ext cx="4500720" cy="220500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653000"/>
            <a:ext cx="4500720" cy="220500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500720" cy="220500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349360"/>
            <a:ext cx="4500720" cy="220500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2349360"/>
            <a:ext cx="4500720" cy="220500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0"/>
            <a:ext cx="4500720" cy="220500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80"/>
            <a:ext cx="450072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das las cartas prepaid (para moviles)  compradas después des 1.11.2002 tienen que ser registradas. Estaba con la intencion de mejor obrar contra el trafico de la droga y del terrorismo que el consejero federal Leuenberger a anunciado la novedad. Esta ley restringe el acceso a la compra de una carta SIM o de un movil a las personas que disponen de un permiso valable para pasar las fronteras Suizas.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n concreto, los refugiados con un permiso N, F o S no pueden ni registrarse ni hacer uso de la telefonia movil.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Esta practica no solo es discriminativa sino también absurda, porque obliga a registrar su movil por un tercero, lo que hace imposible agregar un numero a una persona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ecisa. Esto no sirve para los servicios de seguridad del Est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Segunda accion de registracion: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(Traer su movil por favor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uando: Viernes 15 del octubre, de las 15 a las 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000000"/>
                </a:solidFill>
                <a:latin typeface="Arial"/>
              </a:rPr>
              <a:t>Donde: Cerca del pozo al Helvetiaplatz a Zurich.</a:t>
            </a: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3280" y="4632480"/>
            <a:ext cx="450072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das las cartas prepaid (para moviles)  compradas después des 1.11.2002 tienen que ser registradas. Estaba con la intencion de mejor obrar contra el trafico de la droga y del terrorismo que el consejero federal Leuenberger a anunciado la novedad. Esta ley restringe el acceso a la compra de una carta SIM o de un movil a las personas que disponen de un permiso valable para pasar las fronteras Suizas.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n concreto, los refugiados con un permiso N, F o S no pueden ni registrarse ni hacer uso de la telefonia movil.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Esta practica no solo es discriminativa sino también absurda, porque obliga a registrar su movil por un tercero, lo que hace imposible agregar un numero a una persona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ecisa. Esto no sirve para los servicios de seguridad del Est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Segunda accion de registracion: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(Traer su movil por favor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uando: Viernes 15 del octubre, de las 15 a las 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000000"/>
                </a:solidFill>
                <a:latin typeface="Arial"/>
              </a:rPr>
              <a:t>Donde: Cerca del pozo al Helvetiaplatz a Zurich.</a:t>
            </a: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632480"/>
            <a:ext cx="450072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das las cartas prepaid (para moviles)  compradas después des 1.11.2002 tienen que ser registradas. Estaba con la intencion de mejor obrar contra el trafico de la droga y del terrorismo que el consejero federal Leuenberger a anunciado la novedad. Esta ley restringe el acceso a la compra de una carta SIM o de un movil a las personas que disponen de un permiso valable para pasar las fronteras Suizas.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n concreto, los refugiados con un permiso N, F o S no pueden ni registrarse ni hacer uso de la telefonia movil.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Esta practica no solo es discriminativa sino también absurda, porque obliga a registrar su movil por un tercero, lo que hace imposible agregar un numero a una persona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ecisa. Esto no sirve para los servicios de seguridad del Est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Segunda accion de registracion: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(Traer su movil por favor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uando: Viernes 15 del octubre, de las 15 a las 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000000"/>
                </a:solidFill>
                <a:latin typeface="Arial"/>
              </a:rPr>
              <a:t>Donde: Cerca del pozo al Helvetiaplatz a Zurich.</a:t>
            </a: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349360"/>
            <a:ext cx="450072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das las cartas prepaid (para moviles)  compradas después des 1.11.2002 tienen que ser registradas. Estaba con la intencion de mejor obrar contra el trafico de la droga y del terrorismo que el consejero federal Leuenberger a anunciado la novedad. Esta ley restringe el acceso a la compra de una carta SIM o de un movil a las personas que disponen de un permiso valable para pasar las fronteras Suizas.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n concreto, los refugiados con un permiso N, F o S no pueden ni registrarse ni hacer uso de la telefonia movil.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Esta practica no solo es discriminativa sino también absurda, porque obliga a registrar su movil por un tercero, lo que hace imposible agregar un numero a una persona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ecisa. Esto no sirve para los servicios de seguridad del Est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Segunda accion de registracion: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(Traer su movil por favor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uando: Viernes 15 del octubre, de las 15 a las 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000000"/>
                </a:solidFill>
                <a:latin typeface="Arial"/>
              </a:rPr>
              <a:t>Donde: Cerca del pozo al Helvetiaplatz a Zurich.</a:t>
            </a: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2349360"/>
            <a:ext cx="450072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das las cartas prepaid (para moviles)  compradas después des 1.11.2002 tienen que ser registradas. Estaba con la intencion de mejor obrar contra el trafico de la droga y del terrorismo que el consejero federal Leuenberger a anunciado la novedad. Esta ley restringe el acceso a la compra de una carta SIM o de un movil a las personas que disponen de un permiso valable para pasar las fronteras Suizas.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n concreto, los refugiados con un permiso N, F o S no pueden ni registrarse ni hacer uso de la telefonia movil.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Esta practica no solo es discriminativa sino también absurda, porque obliga a registrar su movil por un tercero, lo que hace imposible agregar un numero a una persona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ecisa. Esto no sirve para los servicios de seguridad del Est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Segunda accion de registracion: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(Traer su movil por favor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uando: Viernes 15 del octubre, de las 15 a las 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000000"/>
                </a:solidFill>
                <a:latin typeface="Arial"/>
              </a:rPr>
              <a:t>Donde: Cerca del pozo al Helvetiaplatz a Zurich.</a:t>
            </a: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0"/>
            <a:ext cx="450072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das las cartas prepaid (para moviles)  compradas después des 1.11.2002 tienen que ser registradas. Estaba con la intencion de mejor obrar contra el trafico de la droga y del terrorismo que el consejero federal Leuenberger a anunciado la novedad. Esta ley restringe el acceso a la compra de una carta SIM o de un movil a las personas que disponen de un permiso valable para pasar las fronteras Suizas.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n concreto, los refugiados con un permiso N, F o S no pueden ni registrarse ni hacer uso de la telefonia movil.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Esta practica no solo es discriminativa sino también absurda, porque obliga a registrar su movil por un tercero, lo que hace imposible agregar un numero a una persona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ecisa. Esto no sirve para los servicios de seguridad del Est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Segunda accion de registracion: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(Traer su movil por favor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uando: Viernes 15 del octubre, de las 15 a las 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000000"/>
                </a:solidFill>
                <a:latin typeface="Arial"/>
              </a:rPr>
              <a:t>Donde: Cerca del pozo al Helvetiaplatz a Zurich.</a:t>
            </a: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7:38:55Z</dcterms:created>
  <dc:creator> pc</dc:creator>
  <dc:description/>
  <dc:language>en-US</dc:language>
  <cp:lastModifiedBy> pc</cp:lastModifiedBy>
  <dcterms:modified xsi:type="dcterms:W3CDTF">2004-09-30T17:49:47Z</dcterms:modified>
  <cp:revision>8</cp:revision>
  <dc:subject/>
  <dc:title>Slide 1</dc:title>
</cp:coreProperties>
</file>